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27D-D4C9-46DA-B2C2-3494794B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502-3773-4667-8326-0B6F6BD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598-6D09-4D12-AEF4-547F75BD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CBF-D3CD-4554-B361-6C20CD7F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9AA-8EA5-4384-8EE2-A0A8A495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1F4E-8E76-4A49-95BB-4D6417A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F105-29B5-413B-A3BC-E2CAF074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C952-65D7-40FE-A72C-9B79E719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5FD8-9D6F-42F0-A4DC-C2C64116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215E-6392-4903-A680-2B6DEDF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288-775B-48D9-B130-F461446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A41-A296-47A0-8D27-9BB45490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454-D427-486D-AB60-E9B4E45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7277-1643-4D1D-93ED-148D0DE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0C5-8544-4DCA-9FAF-DFE0605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595-230D-4BF8-94F7-8E5FE871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07F6-9396-4C98-9003-0216A22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B90-DBCF-454B-85F7-802287B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915-756B-4349-8CBD-9C66B04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A0D-C9DC-40EE-92AA-7C3C1A35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74E-FFC9-41C1-B9F8-8AC07592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2FA-E9BB-4D03-9E12-1CA77C50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46D-46A7-4B0D-A35C-EA6495E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DD4-9D04-4EBF-B317-4B8627D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3329-10A3-4F8F-BF62-BA80068B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EA6A-1331-43CA-82DE-006560243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seballinstinct.com/2011/07/18/touchem-all-top-mlb-sally-league-pitching-prospects/jesse-biddl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tchel Paig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SATCHEL PAIGE"/>
          <p:cNvPicPr/>
          <p:nvPr/>
        </p:nvPicPr>
        <p:blipFill>
          <a:blip r:embed="rId2"/>
          <a:stretch/>
        </p:blipFill>
        <p:spPr>
          <a:xfrm>
            <a:off x="5943600" y="380880"/>
            <a:ext cx="281772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 styl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352680" y="388620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ach Davis has a lo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id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t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eat play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eness in the ability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othy, Cody and Nick play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utfie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nd the pitcher stands 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of the field most distant from the bat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85800" y="4038480"/>
            <a:ext cx="8077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y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ck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of the other players while his team was in the l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unt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895480" y="44956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itchers 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eakn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en it comes to bat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ast-developed ski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d-sla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133720" y="358128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d Sox’s starting pitcher had a uni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nd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made him hard to h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ding to the cat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 pitcher moves before throwing the 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8839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stbal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practically untouch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rvy pitc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edy pi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llandbat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weak point; slight faul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MPj03096340000[1]"/>
          <p:cNvPicPr/>
          <p:nvPr/>
        </p:nvPicPr>
        <p:blipFill>
          <a:blip r:embed="rId1"/>
          <a:stretch/>
        </p:blipFill>
        <p:spPr>
          <a:xfrm>
            <a:off x="228600" y="762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three players in the outfiel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MCj02956620000[1]"/>
          <p:cNvPicPr/>
          <p:nvPr/>
        </p:nvPicPr>
        <p:blipFill>
          <a:blip r:embed="rId1"/>
          <a:stretch/>
        </p:blipFill>
        <p:spPr>
          <a:xfrm>
            <a:off x="2895480" y="5025960"/>
            <a:ext cx="2024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657240" y="24379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pitch thrown at high speed with very little cur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343400" y="1143000"/>
            <a:ext cx="35812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stba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8" descr="http://baseballinstinct.com/wp-content/uploads/2011/07/Jesse-Bidd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2381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1280" y="1905120"/>
            <a:ext cx="472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aving no like or equ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8" descr="MPj04332110000[1]"/>
          <p:cNvPicPr/>
          <p:nvPr/>
        </p:nvPicPr>
        <p:blipFill>
          <a:blip r:embed="rId1"/>
          <a:stretch/>
        </p:blipFill>
        <p:spPr>
          <a:xfrm>
            <a:off x="4038480" y="3352680"/>
            <a:ext cx="41148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ughing at; making fun of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581280" y="762120"/>
            <a:ext cx="4038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MCj03792570000[1]"/>
          <p:cNvPicPr/>
          <p:nvPr/>
        </p:nvPicPr>
        <p:blipFill>
          <a:blip r:embed="rId1"/>
          <a:stretch/>
        </p:blipFill>
        <p:spPr>
          <a:xfrm>
            <a:off x="3124080" y="4648320"/>
            <a:ext cx="289584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MCPE06927_0000[1]"/>
          <p:cNvPicPr/>
          <p:nvPr/>
        </p:nvPicPr>
        <p:blipFill>
          <a:blip r:embed="rId2"/>
          <a:stretch/>
        </p:blipFill>
        <p:spPr>
          <a:xfrm>
            <a:off x="6553080" y="4191120"/>
            <a:ext cx="1770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swinging movement of the arms while twisting the body just before pitching the ba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http://theredzonereport.com/wp-content/uploads/2009/06/cole_hamels_phillies.jpg"/>
          <p:cNvPicPr/>
          <p:nvPr/>
        </p:nvPicPr>
        <p:blipFill>
          <a:blip r:embed="rId1"/>
          <a:stretch/>
        </p:blipFill>
        <p:spPr>
          <a:xfrm>
            <a:off x="152280" y="228600"/>
            <a:ext cx="2838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irm belief in yourself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fid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ball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c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tfie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q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nd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MCj04258260000[1]"/>
          <p:cNvPicPr/>
          <p:nvPr/>
        </p:nvPicPr>
        <p:blipFill>
          <a:blip r:embed="rId1"/>
          <a:stretch/>
        </p:blipFill>
        <p:spPr>
          <a:xfrm>
            <a:off x="3429000" y="4572000"/>
            <a:ext cx="1835280" cy="169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MCj03966600000[1]"/>
          <p:cNvPicPr/>
          <p:nvPr/>
        </p:nvPicPr>
        <p:blipFill>
          <a:blip r:embed="rId2"/>
          <a:stretch/>
        </p:blipFill>
        <p:spPr>
          <a:xfrm>
            <a:off x="6324480" y="4495680"/>
            <a:ext cx="1123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isa</cp:lastModifiedBy>
  <dcterms:modified xsi:type="dcterms:W3CDTF">2012-09-30T14:10:01Z</dcterms:modified>
  <cp:revision>23</cp:revision>
  <dc:subject/>
  <dc:title>Frindle Vocabulary Words</dc:title>
</cp:coreProperties>
</file>